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C68-2671-4D76-AC75-B9524144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434-804D-4F1C-AF64-C0059DB5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988-CADD-427A-913D-3BC1DF30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7ED-1C88-480C-86EF-026E4CED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772-7948-449E-A9FC-9354C0B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BEB-B39F-464D-8576-7991C83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7F6-F4A0-481C-BDCC-56C546D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EFF-3D13-464D-89E9-ADFA97C3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3E2A-1CBA-4693-8A1E-D4F93B6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E1E0-88BB-4143-8685-614F3A83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C31-2F01-43F6-8866-ED9383E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CF0-3D19-48A9-8182-E791B21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6C5-757D-4458-B200-C6B42B33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9E7-F7BC-44B1-9112-9B94FFC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8AE-4EAA-41AE-945D-D5FBA9EB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A2E-42E1-4378-AFE6-0B3A4203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8AB4-FA77-4AEE-AE1D-7A346A5B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4E52-8C66-40E0-8B63-0D750234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9166-E049-4377-8251-6215B13B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C2E1-1854-411B-A20B-047D855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3CB0-8536-4F1B-AA0B-58A50E4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82FB-AC84-482F-B02E-50C62295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363-9439-4C70-B308-6A56DFE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561EB-4706-4891-A560-78D9CE5A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6BE6-AC23-4E37-AA76-33AFC56A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6BBB-EC17-421D-8D72-A4D17D1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7109-28BA-48FF-A421-52505D5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B3C5-B2BD-4A23-AE8D-1C2DF5F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108E-FDB1-4AB6-8E2C-B31E17A3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145B-4630-4234-ADE0-CF499241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8368-821E-42A8-A39B-AA3BF1F3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2D46-A92E-43FA-9A22-F7642AB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605E-A324-4CBD-9710-58A4813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ED7-C4DA-4153-BA7B-F6C63B84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546C-83AC-4950-8AC7-01211F2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DBF0-81B6-4C73-A746-C69FF6E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BFFF-B763-4446-B835-CF16CCA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1AC7-E3CF-4036-8850-1EDAA05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FA6B-E712-4351-AD21-0E60156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70EC-75AB-488D-B6BD-0FD0866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A711-AD98-4B87-A671-28135443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DC49-6387-4D45-B0AE-0AC46442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392A-3889-439B-924F-6F1F0294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C270-D9E2-4A4A-819E-B200195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307-3C0D-4F70-850C-ECC39F4B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F48B-BA55-49E7-82CC-28914AB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0CEA2-09D3-48FF-9382-F8E3517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4CEB-6A8C-4B16-95D0-5C52368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F278-4E49-4F10-BADB-1218C9AF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4B8F-C1FC-4E87-B212-28A5AC4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4803-B6A8-4045-8EC1-6F99488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0FAB-4CD4-4BAC-9032-2C19989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968C-A91F-4EF2-A691-5BE6D58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C037-E704-4FFD-8F17-5E0D7C82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AC6E-140D-42AF-B336-509BF53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949-9F05-47F0-954A-AA4A48E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D60AC-5441-4B30-BC6D-952E7F68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9D7-DF95-42FE-9D85-9A162EB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398-68D8-4F72-B8A2-5438C8B5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649-38B7-4C08-BDB4-17E0735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EF09-D66B-4D4D-BD6C-DB41F46D0F6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D0C-9CFA-4744-B9DD-B0B380E903F1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B94F-BACF-41B9-BF30-BD60304B3AC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1514-BD8F-470E-ABF3-18337A11130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4EF-EE00-40F7-90B9-3BCBA614601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93440" y="1125360"/>
            <a:ext cx="655020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Arial"/>
              </a:rPr>
              <a:t>Антикризисный </a:t>
            </a:r>
            <a:r>
              <a:rPr b="1" i="1" lang="en-US" sz="3600" spc="-1" strike="noStrike">
                <a:solidFill>
                  <a:srgbClr val="262626"/>
                </a:solidFill>
                <a:latin typeface="Arial"/>
              </a:rPr>
              <a:t>PR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Теория кризисов: определение, типология, причины возникновения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ы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язательный компонент нашей жизн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икто не застрахован от кризис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 только угроза организации, но и шанс улучшить ее репутац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Impact"/>
              </a:rPr>
              <a:t>конфликт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инамический тип социальных взаимоотношений, произрастающих из потенциально возможных или реальных столкновений субъектов на почве тех или иных противоречиво осознаваемых предпочтений, интересов или ценностей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стоянно присутствующий и не поддающийся устранению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Типология кризисов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ассификация кризисов зависит от того, какой критерий мы выбирае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ожиданные кризисы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Происходят настолько внезапно и неожиданно, что остается очень мало или совсем не бывает времени для подготовки и планирования (авиакатастрофа, смерть ведущего руководителя и т.п.). Такие кризисы требуют заблаговременного согласования между руководителями плана действий, который позволили бы избежать недоразумений и неоперативности реагирования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ревающие кризисы. Больше времени для планирования и изучения, но могут разразиться моментально после длительного брожения (неудовлетворение работников, неблагоприятный моральный климат и т.п.)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62626"/>
                </a:solidFill>
                <a:latin typeface="Impact"/>
              </a:rPr>
              <a:t>Классификация кризисов ( С. Катлип, А. Сентер и Г. Брум):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прерывные кризисы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. Могут длиться месяцами или годами (сплетни, слухи, спекуляции)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1040" y="228240"/>
            <a:ext cx="739296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типы 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организационных </a:t>
            </a:r>
            <a:r>
              <a:rPr b="1" lang="ru-RU" sz="2400" spc="-1" strike="noStrike">
                <a:solidFill>
                  <a:srgbClr val="262626"/>
                </a:solidFill>
                <a:latin typeface="Impact"/>
              </a:rPr>
              <a:t>кризисов:</a:t>
            </a: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1640" y="1773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303030"/>
                </a:solidFill>
                <a:uFillTx/>
                <a:latin typeface="Times New Roman"/>
              </a:rPr>
              <a:t>Неожиданные кризисы</a:t>
            </a: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 (чрезвычайные происшествия: различного вида катастрофы, смерть ведущего служащего, пожары, паника в учреждении и т.д.) – наиболее опасный вид кризисов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03030"/>
                </a:solidFill>
                <a:latin typeface="Times New Roman"/>
              </a:rPr>
              <a:t>Они случаются так внезапно и неожиданно, что остается немного времени или его почти нет для исследования и планирования. </a:t>
            </a: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262626"/>
                </a:solidFill>
                <a:uFillTx/>
                <a:latin typeface="Impact"/>
              </a:rPr>
              <a:t>Развивающиеся кризисы</a:t>
            </a:r>
            <a:endParaRPr b="0" lang="en-US" sz="3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удовлетворенность служащих и низкие моральные качества, значительные злоупотребления на работе, назначение завышенной цены по государственным контрактам компан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этом случае остается больше времени для исследования и планирования, но и эти кризисы могут происходить неожиданно, назревая в течение длительного времен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262626"/>
                </a:solidFill>
                <a:uFillTx/>
                <a:latin typeface="Impact"/>
              </a:rPr>
              <a:t>Устойчивые кризисы</a:t>
            </a:r>
            <a:endParaRPr b="0" lang="en-US" sz="3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дезинформация, слухи, толки, предположения, высказываемые в средствах массовой информации и устн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которые, несмотря на усилия администрации, продолжают существовать месяцами или даже годам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55920" y="0"/>
            <a:ext cx="7588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Классификация кризисов - подход С. Блэка:</a:t>
            </a:r>
            <a:r>
              <a:rPr b="1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известное неизвестное» -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известно, что авария может произойти, но </a:t>
            </a: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еизвестно,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изойдет ли она, и если да, то когда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«неизвестное неизвестное»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- случаются катастрофы и аварии, которые никто не способен предвидеть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управления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С точки зрения пиара, маркетинговых коммуникаций и комьюнити-менеджмента, 2020-2021 гг. показали большое количество примеров и ситуаций, когда бизнес демонстрировал в основном неудачные примеры антикризисных коммуникаций и слабого маркетингового взаимодействия.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i="1" lang="ru-RU" sz="2300" spc="-1" strike="noStrike" u="sng">
                <a:solidFill>
                  <a:srgbClr val="262626"/>
                </a:solidFill>
                <a:uFillTx/>
                <a:latin typeface="Impact"/>
              </a:rPr>
              <a:t>Д. Ньюсом, А. Скотт («Это ПР»)</a:t>
            </a:r>
            <a:r>
              <a:rPr b="0" lang="ru-RU" sz="40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1341360"/>
          <a:ext cx="8280360" cy="5516640"/>
        </p:xfrm>
        <a:graphic>
          <a:graphicData uri="http://schemas.openxmlformats.org/drawingml/2006/table">
            <a:tbl>
              <a:tblPr/>
              <a:tblGrid>
                <a:gridCol w="2741760"/>
                <a:gridCol w="1868400"/>
                <a:gridCol w="367020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ы кризи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руш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строфические - внезапные человеческие жертвы и разруш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разрушительны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жиданные у грозы, но потери, если случаются, отсроче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ирод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трясения, лесные пожары, ураганы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хи, эпидемии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ы терроризма, в том числе умышленная порча продуктов, что приводит к человеческим жертвам или повреждению собст­в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 использования взрывчатки, отравления продуктов, насильствен­ных захватов, разглашение секретов, умышленные слухи и другие злонамеренные дей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предна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ывы, пожары, отравления, другие авар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на производстве с отсроченными последствиями, биржевые крахи, банкрот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31640" y="475920"/>
            <a:ext cx="765972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расположению источника кризисы можно подразделить на внешние, внутренние и смешанные (последний вариант наиболее распространен)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 направленности воздействий — на непосредственные и косвенные, т.е. непосредственно касающиеся базисного PR-субъекта и косвенно затрагивающие его интере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3920" y="0"/>
            <a:ext cx="7659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Ученые выделили восемь типов кризисов, вызванных либо управленческими ошибками, либо природными силами: 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9040" y="1125360"/>
            <a:ext cx="74646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иродные и технологические кризисы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онфронтация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доброжелательность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скажение управленческих ценносте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ман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лохое исполнение управленцами своих обязанностей (должностные преступления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еловые кризисы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экономические кризисы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0" name="Picture 3" descr="Снимок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42920" y="141264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62" name="Picture 3" descr="Снимок_2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Экономически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ражают острые противоречия в экономике страны или экономическом состоянии отдельного предприятия, фирмы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роизводства и реализации товара, взаимоотношений экономических агентов, кризисы неплатежей, потери конкурентных преимуществ, банкротства и п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262626"/>
                </a:solidFill>
                <a:latin typeface="Impact"/>
              </a:rPr>
              <a:t>Социальные кризисы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ют при обострении противоречий или столкновении интересов различных социальных групп или образований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ботников и работодателей, профсоюзов и предпринимателей, специалистов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личных профессий, персонала и менеджеров и др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Организационны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являются как кризисы разделения 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нтеграции деятельности, распределения функций, регламент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функционирования отдельных подразделений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ак отделение административных единиц, регионов, филиалов или дочерних фирм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26"/>
                </a:solidFill>
                <a:latin typeface="Impact"/>
              </a:rPr>
              <a:t>Психологические кризис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психологического состояни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челове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ни проявляются в виде стресса, приобретающего массовый характер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в возникновении чувства неуверенности, паники, страха за будущее, неудовлетворенности работой, правовой защищенностью и социальным положением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 в социально-психологическом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лимате общества, коллектива или отдельной социальной групп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Impact"/>
              </a:rPr>
              <a:t>Технологический кризис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озникает как кризис новых технологически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идей в условиях явно выраженной потребности в новых технологиях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ожет быть кризис технологической несовместимости изделий или кризис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тторжения новых технологических решений. В более обобщенном плане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акие кризисы могут выглядеть кризисами научно-технического прогресса —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острение противоречий между его тенденциями, возможностями,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следствиям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в настоящее время переживает явный кризис идея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мирного использования атомной энергии, строительства атомных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лектростанций и кораблей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hoto_2020-07-15_16-31-11-736x1024"/>
          <p:cNvPicPr/>
          <p:nvPr/>
        </p:nvPicPr>
        <p:blipFill>
          <a:blip r:embed="rId1"/>
          <a:stretch/>
        </p:blipFill>
        <p:spPr>
          <a:xfrm>
            <a:off x="250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18920" y="228600"/>
            <a:ext cx="737244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Причины возникновения кризисов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47640" y="1267920"/>
            <a:ext cx="734544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могут быть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объективными и субъективным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бъективный кризис вызывают обстоятельства, находящиеся вне контроля базисного PR-субъект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апример, избрание нового губернатора, стихийные природные явления, теракты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дним из признаков объективного кризиса является то, что он негативно сказывается на  широкой аудитории, а не только на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базисном PR-субъекте. К признакам такого кризиса относится также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неожиданность,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паническое состояние жертв воздействий и кажущаяся безысходность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Основные проблемы у организации возникают не в результате самих объективных кризисов, а в результате адаптации к новым условиям. Таким образом, вторичное порождение объективного кризиса — это </a:t>
            </a: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кризис адаптации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В результате преодоления объективных кризисов у организации вырабатывается «антикризисный иммунитет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39296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Сферы протекания кризисных процессов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8692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деляются на природные, общественные, экологически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ервые вызваны природными условиями жизни и деятельности человека. К причинам таких кризисов относят землетрясения, ураганы, пожары, климатические изменения, наводнения. Это отражается на экономике, психологии человека, социальных и политических процессах. Природные кризисы включают в себя последствия любых стихийных бедствий. Например, наводнениеуничтожило весь урожай на полях базисного PR-субъе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692360" y="475920"/>
            <a:ext cx="729936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чиной кризисов могут быть общественные отношения во всех формах их выражен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пример, законодательные (принят новый закон об ипотеке) или политические, которые обычно бывают вызваны сменой каких-либо ключевых политических фигур, от Президента РФ до депутата местного самоуправления, а также приходом к власти новых политических сил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Экологические кризисы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ризисы взаимоотношения человека с природой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ы, возникающие при изменении природных условий, вызванных деятельностью человека, — истощение ресурсов, загрязнение окружающей среды, возникновение опасных технологий, пренебрежение требованиями законов природного равновесия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3760" y="228240"/>
            <a:ext cx="73198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Impact"/>
              </a:rPr>
              <a:t>Актуальность антикризисного  менеджмента</a:t>
            </a:r>
            <a:endParaRPr b="0" lang="en-US" sz="2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895040" y="1341360"/>
            <a:ext cx="7248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дикальные технологические трансформации вызвали негативные изменения глубинных основ функционирования общества,  воспроизводства действительной жизни населения, его материального благополучия, физического, духовно-нравственного и психического здоровья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иобрели опасный характер депопуляционные процессы, обнищание населения, разрушение трудового потенциала, массовые социопат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худшилась социально-экологическая ситуация, обострились угрозы техногенных аварий и катастроф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Понятие и функции антикризисного менеджмента. 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е PR</a:t>
            </a: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являются важной частью антикризисного менеджмента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нтикризисный менеджмент - деятельность, необходимая для преодоления состояния, угрожающего существованию предприятия, его репут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этих целях осуществляется ряд информационно-технологических действий, направленных на достижение доверия к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антикризисный менеджмент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узком смысле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- решение задач по разработке и проведению мероприятий, которые ведут к ослаблению и преодолению кризисного процесса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 широком смысле включает не только стратегию и тактику преодоления кризиса, но и его профилактику. Согласно этой точке зрения, например, PR-план по выходу из кризисной ситуации нужно разрабатывать до того, как кризис наступил. Во время кризиса базисный PR-субъект может использовать подготовленные заранее сценарии поведения и трактовки самых разных кризисных случаев, которые могут с ними произойт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Impact"/>
              </a:rPr>
              <a:t>Характеристики кризис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незапное возникновение новых действующих лиц, высказывающихся на тему и требующих объяснен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еренасыщение коммуникационных каналов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рост неопределенности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собое значение превентивный антикризисный менеджмент приобретает в потенциально опасной отрасли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числу таких отраслей эксперты относят потенциально аварийные, — энергетику, химическое производство, добычу природных ресурсов, транспорт;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вязанные с сохранением здоровья и жизни людей, — здравоохранение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роизводство продуктов питания, а также других товаров и услуг;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трасли, связанные с благосостоянием населен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банкротств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тановка производства или его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Забастовка занятых или её угроз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гроза террористического ак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течка значимой конфиденциальн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ерьезный несчастный случай, сопровождающийся фатальным исходом и ранениями, или ограничивающий способность организации функционировать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отеря значимого потребителя или рынк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Банкротство крупнейшего поставщика или задержка поставок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азногласия в отрасл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photo_2020-07-15_16-31-04-2-1024x768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812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Impact"/>
              </a:rPr>
              <a:t>Кризисом для организации могут являться следующие события:</a:t>
            </a:r>
            <a:br>
              <a:rPr sz="31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744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ежелательное или враждебное поглощение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теря финансовой поддержки или покровител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Назначение в госадминистрации чиновника, враждебного для компан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зменение государственного регулирования, несущее серьезные негативные последствия для организации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539640" y="1720800"/>
            <a:ext cx="8425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пный дефект продукта, требующий отзыва продукта с ры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запная болезнь, похищение, смерть и другие причины, затрагивающие способность ключевых менеджеров функцион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наружение криминальной или недобросовестной деятельности, имеющей отношение к менеджменту и грозящей целостности организ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льсификация продукта, компрометирующая орган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618920" y="404640"/>
            <a:ext cx="737244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 качестве кризисных могут выступать явления, имеющие косвенное отношение к деятельности организации. Если в 80-х годах в качестве главных кризисных явлений выступали отзыв недоброкачественной продукции, вопросы здоровья, безопасности и другие "осязаемые" проблемы,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о в 90-х годах кризисный список существенно пополнился: в нем ключевыми были обвинения компаний в расовой и другой дискриминации, должностные преступления, нарушения трудового и торгового законодательства, проблемы сексуальных притязаний и т.д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618920" y="259920"/>
            <a:ext cx="7372440" cy="59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 функциям антикризисного менеджмента относятся исследование и анализ с точки зрения кризисных последствий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гативных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общественных тенденций, представляющих угрозу репутации и прибыли компании (например, негативное восприятие продукта потребителями),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йтральных (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скажем, нововведения в процесс упаковки продуктов)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ложительных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(например, выход на новые рынки) тенденци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63280" y="22824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62626"/>
                </a:solidFill>
                <a:latin typeface="Impact"/>
              </a:rPr>
              <a:t>антикризисный менеджер управляет: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02920" y="907920"/>
            <a:ext cx="7588440" cy="53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ктивами (пассивами) предприятия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апами бизнес-процесса (сбыт, производство, снабжение, учет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программами защиты имущества и безопасности бизнеса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кадрами (включая вопросы формирования кадровой политики,  социальные вопросы, отношения с профсоюзами)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построения отношений с акционерами, партнерами, органами государственной власти;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03030"/>
                </a:solidFill>
                <a:uFillTx/>
                <a:latin typeface="Times New Roman"/>
              </a:rPr>
              <a:t>программами информационной поддержки (включая доведение до сведения трудового коллектива информации о планах, методах и принципах  управления, а также доведение социально-значимых аспектов деятельности до широкой общественности</a:t>
            </a:r>
            <a:r>
              <a:rPr b="0" i="1" lang="ru-RU" sz="2400" spc="-1" strike="noStrike">
                <a:solidFill>
                  <a:srgbClr val="72605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трашен не сам кризис, а неправильное поведение в критической ситуаци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т.е.неумение выстроить эффективные коммуник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02920" y="549360"/>
            <a:ext cx="758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сновой антикризисного PR является стратегия антикризисного менеджмен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Успех преодоления кризисных явлений зависит не только от действий руководства организации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й PR  должен обеспечить поддержку выработанной стратегии выхода из кризиса со стороны внешней среды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Антикризисные связи с общественностью являются одним из важнейших рычагов преодоления кризиса наряду с экономическими, финансовыми, юридическими и прочими рычагами и необходимой частью собственно антикризисного менеджмента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547640" y="404640"/>
            <a:ext cx="7444080" cy="583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ные PR является видом антикризисных PR. Ведь конфликт - частный, локальный вид кризис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кризис взаимного доверия между сторонами, связанными в процессе деятельности; период, когда согласия не удаётся достигнуть путём переговоров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Конфликт – острая форма конкурентной борьбы (и в бизнесе, и в политике, и в личных отношениях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258920" y="259920"/>
            <a:ext cx="7564320" cy="593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д кризисом может подразумеваться и любое изменение в компании, даже рост ее доходов или количества филиалов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Любое изменение – в лучшую или худшую сторону – это уже кризис, поскольку требуются разъяснения для общественности – внутренней или внешне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акие кризисы получили название обыкновенных», они составляют львиную долю кризисов любой компании. И именно на «обыкновенные» кризисы компании, как правило, вообще не реагируют. Среди «обыкновенных» выделяют, в частности, кризисы роста, кризисы зрелости и кризисы спада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7515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Переход от стадии формирования организации к ее интенсивному росту,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ак правило, сопровождается первым кризисом роста.</a:t>
            </a:r>
            <a:br>
              <a:rPr sz="2400"/>
            </a:b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99760" y="15238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Стадия формирования характеризуется, с одной стороны, наличием в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рганизации специалистов-разработчиков («новаторов», «творцов»), готовых, основываясь на потребностях рынка, создавать и предлагать новый (или нужный) продукт, а с другой стороны, превалированием внутри организации тесных, доверительных, почти «семейных» отношений, свойственных организационной культуре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Однако для эффективного функционирования организации на стадии интенсивного роста на смену «творцам» (или в дополнение к ним) должны прийти «продавцы», коммерсанты, специалисты, способные обеспечить продвижение товара на рынке. Изменение профессионально-ролевого состава организации ведет к появлению новых организационно-культурных норм. 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Нормальные условия существования и профессионального развития «продавцов» — это постоянная конкуренция друг с другом, характерная для  предпринимательской организационной культуры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49440" y="1125360"/>
            <a:ext cx="669456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45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81200" y="3376080"/>
            <a:ext cx="6562800" cy="17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Times New Roman"/>
              </a:rPr>
              <a:t>«Знайте о худшем и готовьтесь к нему» </a:t>
            </a:r>
            <a:endParaRPr b="0" lang="en-US" sz="3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Следующая кризисная ситуация ожидает организацию, переходящую от стадии интенсивного роста к стадии стабилизации. Ее называют 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кризисом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зрелости.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стадии стабилизации необходимы специалисты, способные создавать эффективные технологии, фиксировать ( в технологических схемах) наиболее удачные подходы, обнаруженные в ходе интенсивного роста организации. Это означает, что «продавцов» должны сменить (или дополнить) «технологи»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редой их функционирования должны стать правила строгой иерархии, подчиненности, определенности, детерминируемые профессиональной деятельностью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акой тип отношений характерен для бюрократической организационной культуры, вступающей в противоречие с предпринимательской, эффективной для предыдущей стадии, доминантой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Кризис характерен для перехода от стадии стабилизации к с</a:t>
            </a:r>
            <a:r>
              <a:rPr b="1" i="1" lang="ru-RU" sz="2000" spc="-1" strike="noStrike">
                <a:solidFill>
                  <a:srgbClr val="262626"/>
                </a:solidFill>
                <a:latin typeface="Impact"/>
              </a:rPr>
              <a:t>тадии спада. </a:t>
            </a:r>
            <a:r>
              <a:rPr b="1" lang="ru-RU" sz="2000" spc="-1" strike="noStrike">
                <a:solidFill>
                  <a:srgbClr val="262626"/>
                </a:solidFill>
                <a:latin typeface="Impact"/>
              </a:rPr>
              <a:t>Именно этот этап - собственно кризис</a:t>
            </a:r>
            <a:endParaRPr b="0" lang="en-US" sz="2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Именно на него реагируют руководители организации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выживания организации, оказавшейся на стадии спада, необходимы совершенно особые специалисты, способные объединить в себе навыки разработчиков, продавцов и технологов. С точки зрения изменения норм и правил можно предположить, что персонал организации будет нуждаться в совершенно особом стиле отношений — ориентированном на лидера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Для преодоления собственно кризиса особое значение будет иметь то, что принято называть харизмой лидера. При этом в зависимости от специфики организации это может быть харизма вождя, суперпрофессионала или коммуникатора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Факторы, усложняющие управление в условиях кризиса:</a:t>
            </a:r>
            <a:br>
              <a:rPr sz="3000"/>
            </a:br>
            <a:r>
              <a:rPr b="1" lang="ru-RU" sz="30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30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3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Внезапность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Кризис является неожиданны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Недостаточность информации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. Слухи, трудно постичь все, много обращений за разъяснением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Эскалация событий.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ризис разрастается. Все хотят знать, что происходит. Организация пытается реагировать на все аккуратно, но события разворачиваются стремительно.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Факторы управления в условиях кризиса: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Impact"/>
              </a:rPr>
              <a:t>(Ф. С</a:t>
            </a:r>
            <a:r>
              <a:rPr b="1" lang="ru-RU" sz="2800" spc="-1" strike="noStrike">
                <a:solidFill>
                  <a:srgbClr val="000000"/>
                </a:solidFill>
                <a:latin typeface="Impact"/>
              </a:rPr>
              <a:t>айтел)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71280" y="1413000"/>
            <a:ext cx="7272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отеря контроля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верная информация попадает в каналы новостей, газетные полосы и эфир. Расползание слухов трудно контролировать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Нарастание вмешательства внешних си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МИ, общественные организации и население питаются слухами. Все стараются высказать свою точку зрения и ждут реакции организации. Все требуют ответа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Ментальность загнанного в угол. 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Лучше всего молчать. И сидеть как в осаде. «Все, что вы скажите, может быть использовано против вас»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03030"/>
                </a:solidFill>
                <a:latin typeface="Times New Roman"/>
              </a:rPr>
              <a:t>Паника.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пециалисты Ogilvy PR выделяют восемь характеристик, лежащих в основе кризисов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1. Неожиданность, обусловленная разоблачением в средствах массовой информации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2. Недостаток информации об относящихся к делу фактах и стихийно формирующееся общественное представление о проблеме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3. Прогрессирующий поток событий, мешающий топ-менеджерам быстро осознать то, что, нравится им это или нет, они «владеют» проблемой и должны быстро сформулировать убедительный ответ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4. Потеря контроля над восприятием развивающегося кризиса и над воздействием, которое он начинает оказывать на компанию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1040" y="765000"/>
            <a:ext cx="7392960" cy="55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5. Пристальный надзор со стороны как внешних, так и внутренних аудиторий, включая медиа, правительство, регулирующие органы, группы активистов, ключевых стейкхолдеров, а главное – саму управленческую команду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6. Психология «начала осады», обусловливающая попытки руководства компании «спрятаться» за юридическими аспектами кризиса, вместо того, чтобы бороться с основной проблемой, и, таким образом, позволяющая кризису причинить организации еще больший вред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7. Паника, осложняющая и/или парализующая процесс принятия решений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8. Публичное разрешение проблемы, сконструированное таким образом, чтобы удовлетворять интересам аутсайдеров – СМИ, правительства, регулирующих инстанций и групп влияния – но отнюдь не интересам самой компании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«нестабильный или переломный период или положение дел, при котором субъекту угрожают решительные перемены…»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ловарь Вебстера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это прекращение нормального процесса, внезапное серьезное происшествие, ставящее под угрозу стабильность организации и обладающее потенциалом повредить или разрушить ее репутацию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Кризис </a:t>
            </a:r>
            <a:r>
              <a:rPr b="1" lang="ru-RU" sz="3200" spc="-1" strike="noStrike">
                <a:solidFill>
                  <a:srgbClr val="262626"/>
                </a:solidFill>
                <a:latin typeface="Impact"/>
              </a:rPr>
              <a:t>— </a:t>
            </a:r>
            <a:r>
              <a:rPr b="1" i="1" lang="ru-RU" sz="3200" spc="-1" strike="noStrike">
                <a:solidFill>
                  <a:srgbClr val="262626"/>
                </a:solidFill>
                <a:latin typeface="Impact"/>
              </a:rPr>
              <a:t>это событие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по вине которого компания попадает в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нтр не всегда доброжелательного внимания СМИ и других внешни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целевых аудиторий, в том числе акционеров, политиков, профсоюзных</a:t>
            </a:r>
            <a:r>
              <a:rPr b="0" i="1" lang="en-US" sz="28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03030"/>
                </a:solidFill>
                <a:latin typeface="Times New Roman"/>
              </a:rPr>
              <a:t>организаций, движении в защиту окружающей среды, которые по той или иной причине вполне законно интересуются действиями организации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М. Роджестер 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ризисная ситуация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24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епредвиденное, экстремальное, катастрофическое положение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22:28Z</dcterms:created>
  <dc:creator>user</dc:creator>
  <dc:description/>
  <dc:language>en-US</dc:language>
  <cp:lastModifiedBy>User</cp:lastModifiedBy>
  <dcterms:modified xsi:type="dcterms:W3CDTF">2022-12-20T19:32:01Z</dcterms:modified>
  <cp:revision>31</cp:revision>
  <dc:subject/>
  <dc:title>ПР управление кризисом и возможностями</dc:title>
</cp:coreProperties>
</file>